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E97-D493-43B4-8AA4-EA17116E2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9B2-A6CE-40E6-838B-D0F885E18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492-AF63-48C0-BF54-83F31BC0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7FC-3CCD-4BEA-8BAE-635FD361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4B7-11D1-41B2-B842-BBF00E47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EDD-C78F-4538-86D3-6FD5A07C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2B8-65F2-4906-8653-11D00B8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DCE-113D-42A9-B559-359C703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7E1-D5AF-4400-BE49-395F21A4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CD3-B427-472C-879D-06AFC897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7E9-793C-4924-BE8E-D7F9CBD4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807-CCBA-415C-ABDF-55C5AC6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812-5BC1-4C4B-95A9-A916FE3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821-5D1D-41CA-A442-BF3C716E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74C-1FC4-4A2C-8BE5-D9C5DAC20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брињавање пацијената са схизофрениј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нвулзиви као стабилизатори располож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бамазепин и окскарбамазеп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мотри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ирам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цијални агонисти допаминергичких рецеп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ипипраз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исулпри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0102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СПЕКТАР БИПОЛАРНЕ СИМПТОМАТ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590920" cy="26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Roman YU"/>
              </a:rPr>
              <a:t>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Еуф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деја велич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мпулсив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раст либ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Не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треба за спав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2412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Анксиоз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ритаб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Хост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Виолентно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514600" y="2438280"/>
            <a:ext cx="1143000" cy="45720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5486400" y="2438280"/>
            <a:ext cx="838080" cy="53352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V="1">
            <a:off x="3048120" y="4266720"/>
            <a:ext cx="1066680" cy="83844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 flipV="1">
            <a:off x="5257800" y="4419360"/>
            <a:ext cx="990720" cy="60948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505320" y="144792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Roman YU"/>
              </a:rPr>
              <a:t>Манична, депресивна или мешо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295280" y="472176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ПСИХ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умануте иде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Халуц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ензорна хиперактив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324480" y="3654720"/>
            <a:ext cx="2667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КОГН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Бекство ми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истрактибил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лаб у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езорган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Кон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3581280" y="325764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Times New Roman"/>
              </a:rPr>
              <a:t>Епизод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SSA)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alfa – 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600200"/>
          <a:ext cx="8229600" cy="283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 или друга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ћа 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амазе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мотриг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бапент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ирама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а 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 Лит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ск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ult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 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чн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ar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e docet qui bene distinqui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ve ipsius conscietiae pond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1600200"/>
          <a:ext cx="8229600" cy="201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или виш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а антидепресив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и расположења или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депресив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Добро учи онај који добро разликује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Тежак је терет сопствене са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ипологија схизофрених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з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фек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гн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грес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28760" y="64296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омплијантни пацијен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фармација; комбинациј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os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8760" y="64296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фек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биполарног афективног поремећа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 расположењ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иц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схизофреније и других псих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преузимања серотонина +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00040" y="1785960"/>
          <a:ext cx="8229600" cy="192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гн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холинестераз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zheimer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8760" y="642960"/>
          <a:ext cx="8229600" cy="2651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га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пер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ан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ети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прас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00040" y="142884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с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8-19T06:36:0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